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C58C-4079-4920-AAFD-8F7720839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8616-7F80-44B1-B9D5-6754FE59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B023-E675-4108-9838-85E2A12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86D0-2806-4745-9C65-B6FC4BF47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75EA-F94F-476B-B9A4-C7E6CD53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EC6A-13AF-41E9-B90E-364EBF17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A0B1-1960-4545-91ED-F161CE5F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A4F0-0E41-4795-9190-17E4ECA1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E1D0-B022-4647-AF77-480F7022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D5A1-105E-4BE3-AD13-CA9BB495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47FE-D30B-49A4-B575-05B5E3D8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E5FF-E82D-4AAE-A520-2FFB07BD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191-197F-4703-B27E-72130752BE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PT_SECNDPG_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042920" y="1268280"/>
            <a:ext cx="705816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ff0000"/>
                </a:solidFill>
                <a:latin typeface="Arial"/>
              </a:rPr>
              <a:t>Testing the EQF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00"/>
                </a:solidFill>
                <a:latin typeface="Arial"/>
              </a:rPr>
              <a:t>Relating international, national and sectoral qualifications to theEQ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70c0"/>
                </a:solidFill>
                <a:latin typeface="Arial"/>
              </a:rPr>
              <a:t>Report from sess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70c0"/>
                </a:solidFill>
                <a:latin typeface="Arial"/>
              </a:rPr>
              <a:t>Implementing the EQF via NQFs and learning outc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Jens Bjornav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10 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PT_SECNDPG_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928800" y="703440"/>
            <a:ext cx="705780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00"/>
                </a:solidFill>
                <a:latin typeface="Arial"/>
              </a:rPr>
              <a:t>How to read and use the EQF descriptor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Projects state that they are able to work on the basis of the EQF descriptors as they provide a common basis for cooperation and comparison and help to increase the transparency of qualifica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The descriptors can (and have been) read in different ways; some have separated the knowledge, skills and competence elements from each other; others read them as related elements in one complete level statem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The balance between and the weighting of knowledge, skills and competence elements is important; each of these elements represent value hiearchies in their own right and differ between sectors and 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PT_SECNDPG_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928800" y="1357200"/>
            <a:ext cx="70578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00"/>
                </a:solidFill>
                <a:latin typeface="Arial"/>
              </a:rPr>
              <a:t>How to read and how to use the EQF descriptor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One of the key discussions is how to assess and deal with these value hiearchies; a question of the center of gravity of each qualification and a fundamental part of agreeing on their ’best fit’ to the EQF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These value hierarchies reflect the currency character of qualifications; this currency is closely linked to and dependent of the involvement of stakehol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PT_SECNDPG_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857160" y="714240"/>
            <a:ext cx="70581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00"/>
                </a:solidFill>
                <a:latin typeface="Arial"/>
              </a:rPr>
              <a:t>How to describe qualifications so as to increase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A discussion on the vision behinf EQF; are we aiming at standardisation; or are we aiming at transparency to understand and live with differ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Transparency is the vision; we need to map how qualifications are defined and designed differently in different countries to understand divers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We need urgently to develop methods to support the way we describe qualifications; mutual trust depends on a common way to describe qualifications; we need to draw maps of qualifications, we need qualifications typolog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We should start in a simple but practical way by using certificate (and to a certain extent diploma) supplement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PT_SECNDPG_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928800" y="703440"/>
            <a:ext cx="7057800" cy="68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00"/>
                </a:solidFill>
                <a:latin typeface="Arial"/>
              </a:rPr>
              <a:t>How to address learning outco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There are many interpretations of learning outcomes but also a big potential to take this perspective to new areas, for example curriculum and assessment refor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We lack a generalised method for identifying and defining  learning outcom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However, several interesting approaches have been developed and tested and shows how stepwise identification and definition of LO is possi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There is a need to give more concrete guidance on how to identify and define LO, we need to start developing prototypes which could guide stakeholders in different sectors and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PT_SECNDPG_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928800" y="857160"/>
            <a:ext cx="7057800" cy="63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We need to continue and take forward the work on terminology and agree on additional terms which have become relevant during the test and pilot st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Most of the existing definitions in the EQF Recommendation are ok - but their translation into other languages is sometimes poor and causes proble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We need to build on the glossaries produced in the projects to move forward to a more comprehensive EQF-NQF glo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PT_SECNDPG_10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28800" y="1071720"/>
            <a:ext cx="705780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00"/>
                </a:solidFill>
                <a:latin typeface="Arial"/>
              </a:rPr>
              <a:t>Additional key 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The ownership and involvement in the processes of particular importance, for example when developing NQF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The relationship EQF-EHEA needs to be dealt with in a concrete and practical way, through extensive coop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Validation of non-formal and informal learning must be systematically addressed in the implementation of the EQF-NQ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PT_SECNDPG_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000080" y="500040"/>
            <a:ext cx="70581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00"/>
                </a:solidFill>
                <a:latin typeface="Arial"/>
              </a:rPr>
              <a:t>We need to systematically draw on the results and recommendations of the test and pilo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We need  to develop common ways to describe and categorise qualif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We need to use the NCPs for networking on referencing, learning outcomes an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We need prototype methods for identifying and defining learning outcom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We need to build on certificate supplements (and diploma supplement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We need to develop common best cases illustrating the referencing process for different qualifications categories and level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5:00:04Z</dcterms:created>
  <dc:creator>ID</dc:creator>
  <dc:description/>
  <dc:language>en-US</dc:language>
  <cp:lastModifiedBy>Visitor</cp:lastModifiedBy>
  <dcterms:modified xsi:type="dcterms:W3CDTF">2008-11-11T07:24:00Z</dcterms:modified>
  <cp:revision>26</cp:revision>
  <dc:subject/>
  <dc:title>Slide 1</dc:title>
</cp:coreProperties>
</file>